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CDD3-09AE-4F3A-BF0C-FE56AE6C3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D7D3-5C28-4CA7-824C-33EBF3728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7796-51AF-4F37-BC6B-0B34BE0B7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C05B-7DF3-488A-B557-9DE4F2B83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0881-184F-4AEB-BE24-914F68DEE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5D4A-E58C-4B7F-A030-798DF723B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4C48-9884-42BC-BFC3-269316504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E710-D226-40EA-A3A7-B3D3F05F7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9F2D-75AA-4A24-A1FD-36E97A741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3B1F-73BF-4C01-83EB-7D85B5B9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B332-6BBC-439D-BDA9-D725EA7A6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3B0C-76BC-47EF-9A48-00AB16F0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92D2A-A91C-44DF-B879-06151A657B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ave 3"/>
          <p:cNvSpPr/>
          <p:nvPr/>
        </p:nvSpPr>
        <p:spPr>
          <a:xfrm>
            <a:off x="1371600" y="838080"/>
            <a:ext cx="5943600" cy="2590920"/>
          </a:xfrm>
          <a:custGeom>
            <a:avLst/>
            <a:gdLst>
              <a:gd name="textAreaLeft" fmla="*/ 0 w 5943600"/>
              <a:gd name="textAreaRight" fmla="*/ 5943960 w 5943600"/>
              <a:gd name="textAreaTop" fmla="*/ 647640 h 2590920"/>
              <a:gd name="textAreaBottom" fmla="*/ 194328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3300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Wave 4"/>
          <p:cNvSpPr/>
          <p:nvPr/>
        </p:nvSpPr>
        <p:spPr>
          <a:xfrm>
            <a:off x="2438280" y="4038480"/>
            <a:ext cx="5867640" cy="1905120"/>
          </a:xfrm>
          <a:custGeom>
            <a:avLst/>
            <a:gdLst>
              <a:gd name="textAreaLeft" fmla="*/ 0 w 5867640"/>
              <a:gd name="textAreaRight" fmla="*/ 5868000 w 5867640"/>
              <a:gd name="textAreaTop" fmla="*/ 476280 h 1905120"/>
              <a:gd name="textAreaBottom" fmla="*/ 14288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3300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 rot="313200">
            <a:off x="1523880" y="1211400"/>
            <a:ext cx="5554800" cy="182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66ff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Hurry Up"/>
              </a:rPr>
              <a:t>La  música  latina</a:t>
            </a:r>
            <a:endParaRPr b="0" lang="en-US" sz="1800" spc="1" strike="noStrike">
              <a:ln w="12600">
                <a:solidFill>
                  <a:srgbClr val="3366ff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Hurry Up"/>
              <a:ea typeface="Hurry Up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666880" y="4403880"/>
            <a:ext cx="5562720" cy="123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8218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solidFill>
                  <a:srgbClr val="ffff00"/>
                </a:solidFill>
                <a:effectLst>
                  <a:outerShdw dist="107932" dir="18900000" blurRad="0" rotWithShape="0">
                    <a:srgbClr val="1f497d">
                      <a:alpha val="50000"/>
                    </a:srgbClr>
                  </a:outerShdw>
                </a:effectLst>
                <a:latin typeface="Hurry Up"/>
              </a:rPr>
              <a:t>An introduction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solidFill>
                <a:srgbClr val="ffff00"/>
              </a:solidFill>
              <a:effectLst>
                <a:outerShdw dist="107932" dir="18900000" blurRad="0" rotWithShape="0">
                  <a:srgbClr val="1f497d">
                    <a:alpha val="50000"/>
                  </a:srgbClr>
                </a:outerShdw>
              </a:effectLst>
              <a:latin typeface="Hurry Up"/>
              <a:ea typeface="Hurry Up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Hurry Up"/>
              </a:rPr>
              <a:t>Types of Latin Mus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3300">
              <a:alpha val="6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P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R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Altern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Hip Hop / Rap / Reggat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Traditional – Mariachi, Salsa, Son, Bachata, Merengue, etc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F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itle 1"/>
          <p:cNvSpPr/>
          <p:nvPr/>
        </p:nvSpPr>
        <p:spPr>
          <a:xfrm>
            <a:off x="228600" y="274680"/>
            <a:ext cx="876312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Hurry Up"/>
              </a:rPr>
              <a:t>Major Themes of Latin Mus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Content Placeholder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3300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Love and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Rom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Fami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Politics and Cultural Iss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Hurry Up"/>
              </a:rPr>
              <a:t>Features of Latin Mus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Content Placeholder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3300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Word Ord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Line Ord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Purposed inaccurac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Metaphor &amp; Simi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It reads like poet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Hurry Up"/>
              </a:rPr>
              <a:t>Interpreting Latin mus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Content Placeholder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3300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Translate the wor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100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Look for the original word in the dictionary (Example: habla </a:t>
            </a:r>
            <a:r>
              <a:rPr b="1" lang="en-US" sz="4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 hablar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100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</a:rPr>
              <a:t>Now, make sense of the words you h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7T14:49:47Z</dcterms:created>
  <dc:creator>amy.lenord</dc:creator>
  <dc:description/>
  <cp:keywords/>
  <dc:language>en-US</dc:language>
  <cp:lastModifiedBy>amy.lenord</cp:lastModifiedBy>
  <dcterms:modified xsi:type="dcterms:W3CDTF">2010-08-27T15:10:38Z</dcterms:modified>
  <cp:revision>2</cp:revision>
  <dc:subject/>
  <dc:title>Slide 1</dc:title>
</cp:coreProperties>
</file>